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7AF-7ED1-4776-AE2E-FCAB90F4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3A9-92B8-453A-A85E-AF93B2E4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EEF-279E-4585-A230-E6593179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65D-C788-4001-86F0-60F37861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DAE-ADFF-4810-BACE-FB6ACC82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C6D-7439-4CB3-A271-B033D5F6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7A5-CAC1-4AA6-927A-DDDDC8F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227-F285-4C21-83EF-52033E9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399-4410-4E8A-B409-DEA1743A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3B4-61CA-4051-B8BF-C21282AA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418-7CE6-4D12-A09D-744D9C2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88D-3C13-4C52-B70C-5B730D9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49EB-D9C0-4C5A-975B-AFE53B050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e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additional threads in a Delphi application is &lt;Relatively&gt;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e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read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introduce additional threa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Thread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and Thread Saf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hread Models -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hrea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ple Program – Sequential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its to re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gle “Thre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ndows OS runs programs “at the same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me allocation, System 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OS also allows sections of a program to run independently in the sam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ach TThread Object introduces an additional independent set of processor steps (thread) within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ntroduce Multiple Thr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re no longer prepared to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ore than (?)&lt;1-2 Seconds&gt; then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happen in other Thread wait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ings lend themselves to “Background”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atabas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things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need for state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de is unsafe when a variable can be changed by separate threads in an uncontrolled  manner and the change affects the program f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cedure Local Variables ar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ject Private and Protected variables and objects can be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read Local threadvar X: Integ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obal Variable Equivilant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ation Obj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d to manage access to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Critical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tect blocks of c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Simple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e Thread initiates action then waits until other thread has set th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orks with VCL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t to pass a procedure of object withou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dure needs to be able to establish its context to access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ling thread is suspended until the procedure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hread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herit from TThread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verride the Execute Rou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4:22:29Z</dcterms:created>
  <dc:creator>Roger Connell</dc:creator>
  <dc:description/>
  <dc:language>en-US</dc:language>
  <cp:lastModifiedBy>.</cp:lastModifiedBy>
  <dcterms:modified xsi:type="dcterms:W3CDTF">2006-01-07T02:51:35Z</dcterms:modified>
  <cp:revision>7</cp:revision>
  <dc:subject/>
  <dc:title>Threaded Applications</dc:title>
</cp:coreProperties>
</file>